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2BF-8CFA-4AB4-88E2-E9AF2056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9BF-E249-4185-946C-9F5B9F1A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A24-FFB5-4FBC-919F-6D30CAAA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7B6-BB0C-4220-B08E-3756B0FD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984-4233-42CB-805E-2B2B0A19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DE6-9D92-44B6-B1D3-7B09D1F4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FD8-26FF-4271-81BF-5F89A753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134-3D84-4CA6-8EC3-C5475AE7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718-1EC0-4278-9246-1E2DD750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687-E88F-404E-90F1-1F2AFE3B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92C-32C2-4C51-87D2-AF4C424D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796-F2DD-485B-9750-7CD12B16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4772-C634-4320-A18E-1F42E86B8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8734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9520" y="5805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2906640" y="981000"/>
            <a:ext cx="6007320" cy="495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2449440" y="3068640"/>
            <a:ext cx="6450120" cy="66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5"/>
          <a:stretch/>
        </p:blipFill>
        <p:spPr>
          <a:xfrm>
            <a:off x="1828800" y="5173560"/>
            <a:ext cx="7085160" cy="559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179280" y="371628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نفاق والاستهز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179280" y="1557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خشى على صاحبه من الكفر والخروج من المل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5" descr=""/>
          <p:cNvPicPr/>
          <p:nvPr/>
        </p:nvPicPr>
        <p:blipFill>
          <a:blip r:embed="rId6"/>
          <a:stretch/>
        </p:blipFill>
        <p:spPr>
          <a:xfrm>
            <a:off x="4484520" y="5910120"/>
            <a:ext cx="27608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6421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52560" y="4829040"/>
            <a:ext cx="353088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92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9503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24000" y="1125360"/>
            <a:ext cx="3408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الاستهزاء بالدين وأه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206064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زو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2552760"/>
            <a:ext cx="866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رجل في غزو تبوك : ما رأينا مثل قرائنا هؤلاء أرغب بطونا ولا أكذب ألسنا ولا أجبن عند اللق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فبلغ ذلك رسول الله </a:t>
            </a:r>
            <a:r>
              <a:rPr b="1" lang="en-US" sz="3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نزل 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1519200" y="4659480"/>
            <a:ext cx="74278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50920" y="4292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بركم بنفاق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عليهم بالكف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علامات المنافقين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ستهزاء بالدين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طعن في أحكام الشريعة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شأن علمائ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استهزاء ب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 يخشى على صاحبه من الكفر والخروج من الم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هزاء بالعلماء وأهل الخير والصلا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الاستهزاء بالد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ُستهزئ بالله وآياته ورسو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رتد لا يقبل له أي عذر فإما أن يتوب وإما أن يقتل كف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زاح والهزل بشيء من 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أجمع العلماء أنه كفر ور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في قوله تعالى 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دليل على أن اعتقاد المنافقين في ا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صاد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53737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ت الآيات على أن الكف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قول كما يكون بالفعل والق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6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بة الصاد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قبولة وتجب ما قبلها من نفاق أو كفر أو سيئ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2"/>
          <a:stretch/>
        </p:blipFill>
        <p:spPr>
          <a:xfrm>
            <a:off x="4491000" y="4457880"/>
            <a:ext cx="276084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27160" y="981000"/>
            <a:ext cx="8665920" cy="547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3357720"/>
            <a:ext cx="856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5445000"/>
            <a:ext cx="856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6237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57:40Z</dcterms:modified>
  <cp:revision>1857</cp:revision>
  <dc:subject/>
  <dc:title>عرض تقديمي في PowerPoint</dc:title>
</cp:coreProperties>
</file>